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D546-05C8-489D-8B3D-9D4BAB44F8E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97FA-D0E4-4F9B-A60F-C6CEA4B10B1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5D48-70FB-49F4-A109-3090795A4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C182-6FDB-41A4-95B7-0D989042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6549-7ABE-46A9-B7A1-CDFFDC8BD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D79B-6415-4BFA-9059-BF453A7FB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8606-74AD-45E5-A7F4-B4415DF3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103D-C79B-41A7-A15A-7B9A6D64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FB98-5A17-4FB8-9A64-8609286F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8951-90D1-4667-897E-9E0727CA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300A-9AB1-45EA-BF08-9ACBB8CC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F683-BDB8-4A39-AED7-DBB22321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7825-711A-474D-A7DF-4C6E4275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978C-FF9F-4C80-92C3-67DEDDDF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78B5-8AC6-4392-B327-F456117E322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539640" y="2349360"/>
            <a:ext cx="79930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500" spc="-1" strike="noStrike">
                <a:solidFill>
                  <a:srgbClr val="000000"/>
                </a:solidFill>
                <a:latin typeface="Bookman Old Style"/>
              </a:rPr>
              <a:t>Legislação Ambiental sobre Resíduos Sólid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79280" y="547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anos Estratégicos N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250920" y="1700280"/>
            <a:ext cx="8569080" cy="47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onsonância com as demais políticas afins ( PNRSMMA) e com as políticas sociais de Assistência, de Transferência de Renda e Cidadania (MDS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foco na inclusão social e emancipação econômica do catador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ompromisso com o desenvolvimento da cadeia produtiva dos recicláveis beneficiando os catadore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indução à geração de trabalho e renda, para reverter a discriminação social imposta aos catadore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eliminação do desperdício e estímulo ao reaproveitamento e/ou reciclagem de matérias prim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projeto de MDL na redução de emissões de biogás em aterros e lixões - MCidades, MMA, Banco Mundial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anos Estratégicos N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50920" y="1800360"/>
            <a:ext cx="8569080" cy="46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financiamento, pelo FGTS, para implantação de instalações para o manejo, processamento e destinação final dos resíduos de construção e demoliçã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Manual de Apoio à elaboração de PGIRCD (CAIXA, apoio MCIdade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apacitação de recursos humanos para a gestão dos resíduos, incluindo capacitação para catadores - MCidades/IBAM, FNMA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realização de seminários de sensibilização e formação de redes de instituições e de especialistas na temática resíduos sólid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desenvolvimento de banco de dados e sistema de informações em gestão integrada de resíduos – SNIS RS e elaboração de Portal Governamental em resíduos Sólid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900000" y="1773360"/>
            <a:ext cx="6767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79280" y="2349360"/>
            <a:ext cx="88282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684360" y="1916280"/>
            <a:ext cx="755964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971640" y="1844640"/>
            <a:ext cx="69120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95280" y="2349360"/>
            <a:ext cx="81644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39640" y="1700280"/>
            <a:ext cx="763452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68360" y="1916280"/>
            <a:ext cx="820728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684360" y="1700280"/>
            <a:ext cx="734508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304920" y="6094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Política Federal de Saneamento Básico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Lei n° 11.445 de 08/01/07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85800" y="220968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falta de saneamento provoca impactos ambientais na água dos lençóis freáticos e da superfície. Os resíduos sólidos contaminam a natureza com chorume e gás metano, entre outros poluentes que afetam a camada de ozônio, contribuindo para aumentar o efeito estuf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Ela estabelece as diretrizes nacionais para o saneamento básico. A nova legislação define as regras para o aumento de investimentos privados e públicos no setor. Os focos são o planejamento, a fiscalização e a participação social.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771640" y="907920"/>
            <a:ext cx="5677200" cy="10573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"/>
          <p:cNvPicPr/>
          <p:nvPr/>
        </p:nvPicPr>
        <p:blipFill>
          <a:blip r:embed="rId3"/>
          <a:stretch/>
        </p:blipFill>
        <p:spPr>
          <a:xfrm>
            <a:off x="468360" y="2060640"/>
            <a:ext cx="828036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95280" y="1844640"/>
            <a:ext cx="839304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is Estaduais – Resoluções - CONS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187280" y="1700280"/>
          <a:ext cx="6917040" cy="914400"/>
        </p:xfrm>
        <a:graphic>
          <a:graphicData uri="http://schemas.openxmlformats.org/drawingml/2006/table">
            <a:tbl>
              <a:tblPr/>
              <a:tblGrid>
                <a:gridCol w="1530360"/>
                <a:gridCol w="53866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ção 091 de 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era a Resolução CONSEMA nº 008/2000, que dispõe sobre a composição da Câmara Técnica Permanente de Resíduos Sólid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187280" y="2801880"/>
          <a:ext cx="6917040" cy="914400"/>
        </p:xfrm>
        <a:graphic>
          <a:graphicData uri="http://schemas.openxmlformats.org/drawingml/2006/table">
            <a:tbl>
              <a:tblPr/>
              <a:tblGrid>
                <a:gridCol w="1530360"/>
                <a:gridCol w="53866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ção 073 de 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õe sobre a co-disposição de resíduos sólidos industriais em aterros de resíduos sólidos urbanos no Estado do Rio Grande do Su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1187280" y="3882960"/>
          <a:ext cx="6917040" cy="914400"/>
        </p:xfrm>
        <a:graphic>
          <a:graphicData uri="http://schemas.openxmlformats.org/drawingml/2006/table">
            <a:tbl>
              <a:tblPr/>
              <a:tblGrid>
                <a:gridCol w="1530360"/>
                <a:gridCol w="53866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ção 017 de 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belece diretrizes para a elaboração e apresentação de Plano de Gerenciamento Integrado de Resíduos Sólid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187280" y="5106960"/>
          <a:ext cx="6917040" cy="1189080"/>
        </p:xfrm>
        <a:graphic>
          <a:graphicData uri="http://schemas.openxmlformats.org/drawingml/2006/table">
            <a:tbl>
              <a:tblPr/>
              <a:tblGrid>
                <a:gridCol w="1530360"/>
                <a:gridCol w="538668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ção 009 de 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õe de Norma para o Licenciamento Ambiental de Sistema de Incineração de Resíduos provenientes de Serviço de Saúde, classificados como infectantes (Grupo A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is Estaduais – Resoluções - CONS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187280" y="2200320"/>
          <a:ext cx="6917040" cy="914400"/>
        </p:xfrm>
        <a:graphic>
          <a:graphicData uri="http://schemas.openxmlformats.org/drawingml/2006/table">
            <a:tbl>
              <a:tblPr/>
              <a:tblGrid>
                <a:gridCol w="1530360"/>
                <a:gridCol w="53866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ção 002 de 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õe de norma sobre o licenciamento ambiental para co-processamento de resíduos em fornos de clínqu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1187280" y="3301920"/>
          <a:ext cx="6917040" cy="2286000"/>
        </p:xfrm>
        <a:graphic>
          <a:graphicData uri="http://schemas.openxmlformats.org/drawingml/2006/table">
            <a:tbl>
              <a:tblPr/>
              <a:tblGrid>
                <a:gridCol w="1530360"/>
                <a:gridCol w="5386680"/>
              </a:tblGrid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ção 005 de 1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era o prazo de duração da Câmara Técnica Provisória para tratar da elaboração de normas e procedimentos de incineração e co-processamento, para o licenciamento ambiental e operação de sistemas de incineração de resíduos sólidos industriais, urbanos e de serviço de saúde no Estado do Rio Grande do Sul e dá outras providênci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is Municipais – Decr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187280" y="1628640"/>
          <a:ext cx="6917040" cy="914400"/>
        </p:xfrm>
        <a:graphic>
          <a:graphicData uri="http://schemas.openxmlformats.org/drawingml/2006/table">
            <a:tbl>
              <a:tblPr/>
              <a:tblGrid>
                <a:gridCol w="1530360"/>
                <a:gridCol w="53866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to nº 9.367 de 29/12/19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menta a Lei Complementar nº. 65, de 22/12/81, em relação ao manejo de resíduos sólidos no Município e dá outras providênci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2" name="Picture 23" descr=""/>
          <p:cNvPicPr/>
          <p:nvPr/>
        </p:nvPicPr>
        <p:blipFill>
          <a:blip r:embed="rId2"/>
          <a:stretch/>
        </p:blipFill>
        <p:spPr>
          <a:xfrm>
            <a:off x="1332000" y="3789360"/>
            <a:ext cx="6443640" cy="14749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4"/>
          <p:cNvSpPr/>
          <p:nvPr/>
        </p:nvSpPr>
        <p:spPr>
          <a:xfrm>
            <a:off x="1174320" y="5870520"/>
            <a:ext cx="67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ttp://www2.portoalegre.rs.gov.br/smam/default.php?p_secao=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rmas Téc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8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95280" y="2205000"/>
            <a:ext cx="83073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rmas Téc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39640" y="1700280"/>
            <a:ext cx="81327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rmas Téc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24000" y="2565360"/>
            <a:ext cx="852300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rmas Téc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611280" y="1916280"/>
            <a:ext cx="785628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rmas Téc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187280" y="1700280"/>
            <a:ext cx="684072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304920" y="6094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Política Federal de Saneamento Básico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Lei n° 11.445 de 08/01/07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685800" y="220968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o obrigar o poder público a produzir planos de resíduos sólidos, de recursos hídricos e de saneamento básico e a criar agências reguladoras, a lei torna o saneamento um negócio seguro e rentável. Outro destaque é o fortalecimento da comunidade na gestão associada dos consórcios municipais a serem implement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O artigo 57 da nova lei modifica o artigo 24 da Lei 8.666, dispensando licitação para contratação de catadores de resíduos sólidos.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304920" y="6094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Política Federal de Saneamento Básico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Lei n° 11.445 de 08/01/07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685800" y="220968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expectativa do Ministério do Meio Ambiente, com a promulgação da lei do saneamento, é que esta favoreça a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aprovação da Política Nacional de Resíduos Sólido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que se encontra na Casa Civil. As propostas para tal política foram coletadas pelo Ministério e estão sendo estudadas desde 1991.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304920" y="6094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Política Federal de Saneamento Básico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Lei n° 11.445 de 08/01/07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685800" y="2209680"/>
            <a:ext cx="8001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 Brasil precisa investir cerca de 180 bilhões de reais num prazo de 20 anos para universalizar os serviços de saneamento bási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Em 2006, foram investidos apenas R$ 4,5 bilhões no seto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09480" y="5334120"/>
            <a:ext cx="8305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Fonte: AESBE (Associação das Empresas de Saneamento Básico Estaduai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I FEDERAL - Projeto de 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lítica Nacional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250920" y="1916280"/>
            <a:ext cx="8569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Ementa: Estabelece diretrizes e normas para o gerenciamento dos diferentes tipos de resíduos sólid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250920" y="3343320"/>
            <a:ext cx="856908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umento na quantidade de resíduos produzidos e escassez de áreas para disposição final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Destinação final inadequada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Existência de catadores, inclusive crianças nos lixões e nas rua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Falta de incentivo para o fortalecimento do mercado de material reciclado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Inexistência de campanha nacional, estimulando a população a separar os materiais recicláveis e doá-los aos catador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3"/>
          <p:cNvSpPr/>
          <p:nvPr/>
        </p:nvSpPr>
        <p:spPr>
          <a:xfrm>
            <a:off x="3276720" y="2781360"/>
            <a:ext cx="2735280" cy="431640"/>
          </a:xfrm>
          <a:prstGeom prst="roundRect">
            <a:avLst>
              <a:gd name="adj" fmla="val 16667"/>
            </a:avLst>
          </a:prstGeom>
          <a:solidFill>
            <a:srgbClr val="d5d5d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af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I FEDERAL - Projeto de 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lítica Nacional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250920" y="2781360"/>
            <a:ext cx="856908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Insuficiência de recurso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obrança inexistente ou insuficiente para a implementação de novos investimento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Baixos níveis de qualidade e eficiência na prestação dos serviço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Inexistência de linha de apoio à capacitação de recursos humanos e de catadores para a gestão dos resíduo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Descontinuidade de ações no âmbito local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OGU como principal fonte de recursos, sujeito a Cortes orçamentários e pulverização de recurso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1"/>
          <p:cNvSpPr/>
          <p:nvPr/>
        </p:nvSpPr>
        <p:spPr>
          <a:xfrm>
            <a:off x="3276720" y="1989000"/>
            <a:ext cx="2735280" cy="432000"/>
          </a:xfrm>
          <a:prstGeom prst="roundRect">
            <a:avLst>
              <a:gd name="adj" fmla="val 16667"/>
            </a:avLst>
          </a:prstGeom>
          <a:solidFill>
            <a:srgbClr val="d5d5d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af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I FEDERAL - Projeto de 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lítica Nacional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250920" y="2781360"/>
            <a:ext cx="856908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Insuficiência de quadros na estrutura do poder público das três esfera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Baixa capacidade operacional na maioria dos OEMA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Em 70% dos municípios não existe órgão específico para a Limpeza Urbana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usência de instrumentos adequados de regulação e controle sobre a prestação dos serviço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Inexistência de responsabilização do gerador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usência de uma Política Nacional de Resíduos Sólid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0"/>
          <p:cNvSpPr/>
          <p:nvPr/>
        </p:nvSpPr>
        <p:spPr>
          <a:xfrm>
            <a:off x="3276720" y="1989000"/>
            <a:ext cx="2735280" cy="432000"/>
          </a:xfrm>
          <a:prstGeom prst="roundRect">
            <a:avLst>
              <a:gd name="adj" fmla="val 16667"/>
            </a:avLst>
          </a:prstGeom>
          <a:solidFill>
            <a:srgbClr val="d5d5d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af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anos Estratégicos N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250920" y="1989000"/>
            <a:ext cx="8569080" cy="41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PL nº5.296/2005 da Política Nacional de Saneamento SNSA/MCIDAD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Diretrizes para a prestação de serviços públicos de manejo dos resíduos sólid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Proposta de Política Nacional de Resíduos Sólid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ONAMA/SQA/MMA com apoio do MCidades e de entidades públicas e outras organizaçõ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omitê Interministerial de Inclusão Social de Catadores e à Erradicação dos Lixõ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(MinCidades/FUNASA/MMA/MDS e outros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8:40:57Z</dcterms:created>
  <dc:creator>José Rojas</dc:creator>
  <dc:description/>
  <dc:language>en-US</dc:language>
  <cp:lastModifiedBy>ROJAS</cp:lastModifiedBy>
  <dcterms:modified xsi:type="dcterms:W3CDTF">2014-05-08T01:26:50Z</dcterms:modified>
  <cp:revision>209</cp:revision>
  <dc:subject/>
  <dc:title>Slide 1</dc:title>
</cp:coreProperties>
</file>